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20F-5680-4FFA-BB13-A1C7C2E2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A92-68B0-4FF6-9D30-7B7CDEAE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4E5-E002-458F-AFD5-F3E2258C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0A9-8208-494B-AE5F-24B2C9FA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14E4-F452-457B-B5BA-A1B2A8EF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41AB-339A-43D7-9AD6-1214CEBA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C765-1A09-432E-A86E-48656984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C1BA-5F53-4CD0-837A-6FF6959C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86A9-7CF6-4E2D-A1A7-E2EE8CAA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B90A-782C-48FE-8F4F-3408B9FC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F11E-0149-40E7-A0FF-0D32C80F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5AE-CCF6-4F37-B7E1-43F9BDA5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330C-87CF-4D61-877C-6691C32E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3805-0E0D-4479-8244-E4084A9B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5788-BBF0-4AEC-9B86-180BA77D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27BD-87C6-4BBD-9D6B-40B02FAE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CD2C-4FD9-4FA2-8F6C-97559753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603-3C29-4D38-BB52-236D0A19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B54-4241-4214-8F59-5E652DF8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CCF-E7CF-4489-8F1B-B73C4597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51E-A2A2-4199-88DF-A09B9F71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8CB-1228-4073-AAF5-90BFE48A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291-3AB3-4370-AF97-5AB963D9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DB6-9D69-4C12-BEE7-F771B1DD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7AB1-1EB8-490B-BB77-DA4853588438}" type="slidenum">
              <a:rPr b="0" lang="ja-JP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E59E-DA5A-4772-98E7-02DCC0D51569}" type="slidenum">
              <a:rPr b="0" lang="ja-JP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co.jp/search?hl=ja&amp;q=&#12479;&#12467;&#12373;&#12435;&amp;btnG=Google+&#26908;&#32034;&amp;lr=" TargetMode="Externa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nux.or.jp/readme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nux.or.jp/beginners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.hatena.ne.jp/masugata/20050715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php.net/php.internals/22133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news.php.net/php.internals/22132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hp.net/manual/ja/zend.php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39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Verdana"/>
              </a:rPr>
              <a:t>Making of the </a:t>
            </a:r>
            <a:br>
              <a:rPr sz="6000"/>
            </a:br>
            <a:r>
              <a:rPr b="1" lang="en-US" sz="6000" spc="-1" strike="noStrike">
                <a:solidFill>
                  <a:srgbClr val="006666"/>
                </a:solidFill>
                <a:latin typeface="Verdana"/>
              </a:rPr>
              <a:t>TAKO-san patch</a:t>
            </a:r>
            <a:endParaRPr b="1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02920" y="4652640"/>
            <a:ext cx="633564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eiji Masugata &lt;masugata@php.net&gt;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Japan PHP User Group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335772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69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Skills required in hacking the internal portion of PHP.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184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2062080"/>
            <a:ext cx="64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0920" y="17002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Programming language C?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95640" y="3860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PHP's Automatic Build System?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24360" y="4797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m4?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558972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utoconf?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3080" y="558972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utomake?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416600">
            <a:off x="611280" y="3860280"/>
            <a:ext cx="8064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20161800">
            <a:off x="323640" y="3715920"/>
            <a:ext cx="8064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47640" y="3068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TSRM?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16360" y="3068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Zend?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3429000"/>
            <a:ext cx="59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What is this?</a:t>
            </a: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3640" y="2349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sapi?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2360" y="2349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main?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9080" y="2349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ext?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4797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flex?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4797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bison?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3640" y="55897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libtool?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1766880"/>
            <a:ext cx="770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Everything you need is the ability to find your target!!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It is important to read the atmosphere.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413000"/>
            <a:ext cx="842472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60"/>
              </a:rPr>
              <a:t>Most importantly,</a:t>
            </a:r>
            <a:r>
              <a:rPr b="1" lang="en-US" sz="8000" spc="-1" strike="noStrike">
                <a:solidFill>
                  <a:srgbClr val="ff0000"/>
                </a:solidFill>
                <a:latin typeface="60"/>
              </a:rPr>
              <a:t> </a:t>
            </a:r>
            <a:r>
              <a:rPr b="1" lang="en-US" sz="12000" spc="-1" strike="noStrike">
                <a:solidFill>
                  <a:srgbClr val="ff0000"/>
                </a:solidFill>
                <a:latin typeface="60"/>
              </a:rPr>
              <a:t>You need Guts!!</a:t>
            </a:r>
            <a:endParaRPr b="0" lang="en-US" sz="1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500"/>
                            </p:stCondLst>
                            <p:childTnLst>
                              <p:par>
                                <p:cTn id="3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500"/>
                            </p:stCondLst>
                            <p:childTnLst>
                              <p:par>
                                <p:cTn id="38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500"/>
                            </p:stCondLst>
                            <p:childTnLst>
                              <p:par>
                                <p:cTn id="3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4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PHP syntax is similar to C syntax! (1/6)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184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1773360"/>
            <a:ext cx="3095640" cy="39301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&lt;?php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$j = 10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for( $i = 0; $i &lt; $j; ++$i )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printf( "now [%d]!\n", $i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?&gt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1773360"/>
            <a:ext cx="3095640" cy="39301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#include &lt;stdio.h&gt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nt main( int, char </a:t>
            </a:r>
            <a:r>
              <a:rPr b="1" lang="ja-JP" sz="1400" spc="-1" strike="noStrike">
                <a:solidFill>
                  <a:srgbClr val="006699"/>
                </a:solidFill>
                <a:latin typeface="ＭＳ Ｐゴシック"/>
              </a:rPr>
              <a:t>**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nt main( int argc, char **argv )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nt i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nt j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j = 10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for( i = 0; i &lt; j; ++i )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printf( "now [%d]!\n", i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return 0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7640" y="1197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35640" y="119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PHP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03640" y="2133720"/>
            <a:ext cx="2232360" cy="15127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3645000"/>
            <a:ext cx="2159280" cy="15127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0800000">
            <a:off x="3203640" y="4652640"/>
            <a:ext cx="2232000" cy="431640"/>
          </a:xfrm>
          <a:custGeom>
            <a:avLst/>
            <a:gdLst>
              <a:gd name="textAreaLeft" fmla="*/ 348480 w 2232000"/>
              <a:gd name="textAreaRight" fmla="*/ 1953000 w 2232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5491080" y="4167000"/>
            <a:ext cx="1187280" cy="431640"/>
          </a:xfrm>
          <a:custGeom>
            <a:avLst/>
            <a:gdLst>
              <a:gd name="textAreaLeft" fmla="*/ 185400 w 1187280"/>
              <a:gd name="textAreaRight" fmla="*/ 1038960 w 11872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PHP syntax is similar to C syntax! (2/6)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16000" y="184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59280" y="1773360"/>
            <a:ext cx="3313080" cy="4356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&lt;?php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$a = 30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$b = 11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printf( "result [%d]!\n", hoge( $a, $b )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function hoge( $a, $b )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return ( $a * $b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?&gt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1773360"/>
            <a:ext cx="3095640" cy="4356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#include &lt;stdio.h&gt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nt main( int, char **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nt hoge( int, int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nt main( int argc, char **argv )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nt a = 30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nt b = 11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printf( "result [%d]!\n", hoge( a, b )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return 0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nt hoge( int a, int b )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return ( a * b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47640" y="1197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5640" y="119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PHP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32360" y="2421000"/>
            <a:ext cx="3095640" cy="18000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00000" y="3284640"/>
            <a:ext cx="2880000" cy="2592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3850920" y="4941720"/>
            <a:ext cx="1584360" cy="43200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5923080" y="4743360"/>
            <a:ext cx="1187280" cy="432000"/>
          </a:xfrm>
          <a:custGeom>
            <a:avLst/>
            <a:gdLst>
              <a:gd name="textAreaLeft" fmla="*/ 185400 w 1187280"/>
              <a:gd name="textAreaRight" fmla="*/ 1038960 w 11872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PHP syntax is similar to C syntax!(3/6)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184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1785960"/>
            <a:ext cx="3456000" cy="307764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&lt;?php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define( "DEBUG", "1"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f( DEBUG )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printf( "This is the DEBUG mode!\n"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?&gt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1785960"/>
            <a:ext cx="3384720" cy="307764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#include &lt;stdio.h&gt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#define DEBUG 1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nt main( int argc, char **argv )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f( DEBUG )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printf( "This is the DEBUG mode!\n"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return 0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197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35640" y="119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PHP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00000" y="2205000"/>
            <a:ext cx="1440000" cy="360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2410920" y="2276280"/>
            <a:ext cx="1584360" cy="215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88000" y="2205000"/>
            <a:ext cx="1944720" cy="360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3068640"/>
            <a:ext cx="1079640" cy="287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88000" y="2637000"/>
            <a:ext cx="1008000" cy="287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6803640" y="2276280"/>
            <a:ext cx="1584360" cy="215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2123640" y="3068640"/>
            <a:ext cx="1584360" cy="21600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0800000">
            <a:off x="5866920" y="2708280"/>
            <a:ext cx="1584360" cy="21600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PHP syntax is similar to C syntax!(4/6)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16000" y="184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59280" y="1778040"/>
            <a:ext cx="3313080" cy="45694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&lt;?php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for( $i = 0; $i &lt; 5; ++$i )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switch( $i )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case 1  : {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printf( "value is 1.\n" )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case 2  : {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printf( "value is 2?\n" )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if( $i == 2 )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printf( "value is 2!!\n" )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break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case 3  :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case 4  : {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printf( "value is 3 or 4.\n" )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break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default : {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printf( "unkwon values....[%d]\n", $i )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break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if( ($i+1) &gt;= 5 ){ continue; 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printf( "next values...\n" )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?&gt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6920" y="1778040"/>
            <a:ext cx="3095640" cy="467604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#include &lt;stdio.h&gt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int main( int, char ** )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int main( int argc, char **argv )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int i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for( i = 0; i &lt; 5; ++i )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switch( i )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case 1  : {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printf( "value is 1.\n" )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case 2  : {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printf( "value is 2?\n" )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if( i == 2 )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printf( "value is 2!!\n" )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break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case 3  :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case 4  : {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printf( "value is 3 or 4.\n" )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break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default : {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printf( "unkwon values....[%d]\n", i )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break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         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if( (i+1) &gt;= 5 ){ continue; 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printf( "next values...\n" )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return 0;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47640" y="1197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35640" y="119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PHP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32360" y="2205000"/>
            <a:ext cx="1944720" cy="2808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2852640"/>
            <a:ext cx="1943280" cy="2808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0800000">
            <a:off x="2916360" y="5084280"/>
            <a:ext cx="1295280" cy="2890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5869080" y="5516640"/>
            <a:ext cx="1295280" cy="2887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PHP syntax is similar to C syntax!(5/6)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6000" y="184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59280" y="1773360"/>
            <a:ext cx="3313080" cy="414324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&lt;?php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$PTR = fopen( "file.txt", "w"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f( $PTR )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fwrite( $PTR, "wirte strings!!\n"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fclose( $PTR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?&gt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6920" y="1773360"/>
            <a:ext cx="3095640" cy="4356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#include &lt;stdio.h&gt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#include &lt;stdlib.h&gt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nt main( int, char **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nt main( int argc, char **argv )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FILE *PTR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PTR = fopen( "file.txt", "w"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if( PTR )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fputs( "wirte strings!!\n", PTR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fclose( PTR )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return 0;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47640" y="1197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119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PHP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32360" y="2205000"/>
            <a:ext cx="2879640" cy="165564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00000" y="3645000"/>
            <a:ext cx="2880000" cy="165564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0800000">
            <a:off x="3850920" y="4724280"/>
            <a:ext cx="1584360" cy="43200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5923080" y="4383000"/>
            <a:ext cx="1187280" cy="432000"/>
          </a:xfrm>
          <a:custGeom>
            <a:avLst/>
            <a:gdLst>
              <a:gd name="textAreaLeft" fmla="*/ 185400 w 1187280"/>
              <a:gd name="textAreaRight" fmla="*/ 1038960 w 11872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PHP syntax is similar to C syntax! (6/6)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16000" y="184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3280" y="1773360"/>
            <a:ext cx="3529080" cy="39009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&lt;?php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$mysql = mysql_connect( "host", "user", "passwd" )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if( $mysql )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mysql_close($mysql)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else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printf( "Failed to connect to database: Error: %s\n",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                                       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mysql_error())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?&gt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6920" y="1773360"/>
            <a:ext cx="3313440" cy="39009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#include &lt;stdio.h&gt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#include "mysql.h"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int main( int, char ** )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int main( int argc, char **argv )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MYSQL mysql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mysql_init(&amp;mysql)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if( mysql_real_connect( &amp;mysql, "host", "user",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                     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"passwd", "db", 0, NULL, 0 ) )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mysql_close(&amp;mysql)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else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{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printf( "Failed to connect to database: Error: %s\n",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                                 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mysql_error(&amp;mysql))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 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return 0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ＭＳ Ｐゴシック"/>
              </a:rPr>
              <a:t>}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47640" y="1197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119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PHP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16360" y="2060640"/>
            <a:ext cx="3024360" cy="18000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00000" y="3500280"/>
            <a:ext cx="3095640" cy="1584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4066920" y="4724280"/>
            <a:ext cx="1584360" cy="43200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6210360" y="4383000"/>
            <a:ext cx="1187280" cy="432000"/>
          </a:xfrm>
          <a:custGeom>
            <a:avLst/>
            <a:gdLst>
              <a:gd name="textAreaLeft" fmla="*/ 185400 w 1187280"/>
              <a:gd name="textAreaRight" fmla="*/ 1038960 w 11872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723000" cy="49989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TAKO-san patch's target is "array_merge". (1/7)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16000" y="184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59280" y="5300640"/>
            <a:ext cx="4608360" cy="43344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5362200" y="3860640"/>
            <a:ext cx="2089080" cy="505080"/>
          </a:xfrm>
          <a:custGeom>
            <a:avLst/>
            <a:gdLst>
              <a:gd name="textAreaLeft" fmla="*/ 326160 w 2089080"/>
              <a:gd name="textAreaRight" fmla="*/ 1828080 w 20890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258920" y="1484280"/>
            <a:ext cx="6723000" cy="4998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987640" y="5157720"/>
            <a:ext cx="2448000" cy="107964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89440" y="2781360"/>
            <a:ext cx="4319280" cy="143964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5796720" y="5083920"/>
            <a:ext cx="1944720" cy="504720"/>
          </a:xfrm>
          <a:custGeom>
            <a:avLst/>
            <a:gdLst>
              <a:gd name="textAreaLeft" fmla="*/ 303840 w 1944720"/>
              <a:gd name="textAreaRight" fmla="*/ 1701720 w 19447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0800000">
            <a:off x="5579640" y="5444640"/>
            <a:ext cx="2089080" cy="505080"/>
          </a:xfrm>
          <a:custGeom>
            <a:avLst/>
            <a:gdLst>
              <a:gd name="textAreaLeft" fmla="*/ 326160 w 2089080"/>
              <a:gd name="textAreaRight" fmla="*/ 1828080 w 20890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32000" y="357336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Verdana"/>
              </a:rPr>
              <a:t>What?</a:t>
            </a: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0920" y="364500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ariene---------!!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1114560" y="1341360"/>
            <a:ext cx="6913440" cy="5240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 rot="10800000">
            <a:off x="3203280" y="4581000"/>
            <a:ext cx="2089080" cy="505080"/>
          </a:xfrm>
          <a:custGeom>
            <a:avLst/>
            <a:gdLst>
              <a:gd name="textAreaLeft" fmla="*/ 326160 w 2089080"/>
              <a:gd name="textAreaRight" fmla="*/ 1828080 w 20890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95640" y="4078440"/>
            <a:ext cx="576000" cy="158256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1114560" y="1357200"/>
            <a:ext cx="6913440" cy="52405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 rot="10800000">
            <a:off x="2195280" y="5300640"/>
            <a:ext cx="2089080" cy="504720"/>
          </a:xfrm>
          <a:custGeom>
            <a:avLst/>
            <a:gdLst>
              <a:gd name="textAreaLeft" fmla="*/ 326160 w 2089080"/>
              <a:gd name="textAreaRight" fmla="*/ 1828080 w 20890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03280" y="4869000"/>
            <a:ext cx="360360" cy="143964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2637000"/>
            <a:ext cx="820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6699"/>
                </a:solidFill>
                <a:latin typeface="Verdana"/>
              </a:rPr>
              <a:t>Fantastic!!</a:t>
            </a:r>
            <a:endParaRPr b="0" lang="en-US" sz="10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6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5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8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7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7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3534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TAKO-san patch's target is "array_merge". (2/7)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16000" y="184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42920" y="1357200"/>
            <a:ext cx="7064280" cy="53564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042920" y="5805360"/>
            <a:ext cx="4824360" cy="79236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5400000">
            <a:off x="3995640" y="4149720"/>
            <a:ext cx="2089080" cy="504720"/>
          </a:xfrm>
          <a:custGeom>
            <a:avLst/>
            <a:gdLst>
              <a:gd name="textAreaLeft" fmla="*/ 326160 w 2089080"/>
              <a:gd name="textAreaRight" fmla="*/ 1828080 w 20890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036800" y="1341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042920" y="5013360"/>
            <a:ext cx="6913800" cy="151128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5400000">
            <a:off x="5795280" y="3571560"/>
            <a:ext cx="2089440" cy="505080"/>
          </a:xfrm>
          <a:custGeom>
            <a:avLst/>
            <a:gdLst>
              <a:gd name="textAreaLeft" fmla="*/ 326520 w 2089440"/>
              <a:gd name="textAreaRight" fmla="*/ 1828440 w 208944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1036800" y="1341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661000"/>
            <a:ext cx="6913800" cy="86364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5722920" y="4221000"/>
            <a:ext cx="2089080" cy="504720"/>
          </a:xfrm>
          <a:custGeom>
            <a:avLst/>
            <a:gdLst>
              <a:gd name="textAreaLeft" fmla="*/ 326160 w 2089080"/>
              <a:gd name="textAreaRight" fmla="*/ 1828080 w 20890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1036800" y="1341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042920" y="5013360"/>
            <a:ext cx="6913800" cy="158436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6011640" y="3500280"/>
            <a:ext cx="2089080" cy="504720"/>
          </a:xfrm>
          <a:custGeom>
            <a:avLst/>
            <a:gdLst>
              <a:gd name="textAreaLeft" fmla="*/ 326160 w 2089080"/>
              <a:gd name="textAreaRight" fmla="*/ 1828080 w 20890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6093000"/>
            <a:ext cx="4608720" cy="431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16000" y="5661000"/>
            <a:ext cx="6769080" cy="432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2808000" y="3897360"/>
            <a:ext cx="2448000" cy="504720"/>
          </a:xfrm>
          <a:custGeom>
            <a:avLst/>
            <a:gdLst>
              <a:gd name="textAreaLeft" fmla="*/ 382320 w 2448000"/>
              <a:gd name="textAreaRight" fmla="*/ 2142000 w 2448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TAKO-san patch's target is "array_merge". (3/7)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16000" y="184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036800" y="1341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187280" y="3716280"/>
            <a:ext cx="6480360" cy="280836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5400000">
            <a:off x="5938200" y="3141360"/>
            <a:ext cx="2089440" cy="505080"/>
          </a:xfrm>
          <a:custGeom>
            <a:avLst/>
            <a:gdLst>
              <a:gd name="textAreaLeft" fmla="*/ 326520 w 2089440"/>
              <a:gd name="textAreaRight" fmla="*/ 1828440 w 208944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 rot="16200000">
            <a:off x="5436360" y="3285000"/>
            <a:ext cx="2808000" cy="505080"/>
          </a:xfrm>
          <a:custGeom>
            <a:avLst/>
            <a:gdLst>
              <a:gd name="textAreaLeft" fmla="*/ 438480 w 2808000"/>
              <a:gd name="textAreaRight" fmla="*/ 2457000 w 280800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1700280"/>
            <a:ext cx="6480360" cy="36036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1042920" y="1341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 rot="16200000">
            <a:off x="6480000" y="3823920"/>
            <a:ext cx="1584360" cy="50472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2708280"/>
            <a:ext cx="6840720" cy="43344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1036800" y="1341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 rot="16200000">
            <a:off x="5903640" y="2744280"/>
            <a:ext cx="1584360" cy="50472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1628640"/>
            <a:ext cx="6840720" cy="43344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3789360"/>
            <a:ext cx="1942920" cy="36036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6200000">
            <a:off x="3527280" y="4905000"/>
            <a:ext cx="1584360" cy="50472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1042920" y="1341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187280" y="3860640"/>
            <a:ext cx="6840720" cy="86364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5400000">
            <a:off x="3382560" y="2600280"/>
            <a:ext cx="1584360" cy="50508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58920" y="4149720"/>
            <a:ext cx="6697800" cy="431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5400000">
            <a:off x="5327280" y="3105000"/>
            <a:ext cx="1584360" cy="50508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4824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Agenda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0" y="2349360"/>
            <a:ext cx="8964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Verdana"/>
              </a:rPr>
              <a:t>Hacking the Core </a:t>
            </a:r>
            <a:endParaRPr b="1" lang="en-US" sz="6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Verdana"/>
              </a:rPr>
              <a:t>of PHP by </a:t>
            </a:r>
            <a:endParaRPr b="1" lang="en-US" sz="6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Verdana"/>
              </a:rPr>
              <a:t>TAKO-san patch.</a:t>
            </a:r>
            <a:endParaRPr b="1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TAKO-san patch's target is "array_merge". (4/7)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036800" y="1341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1042920" y="4365720"/>
            <a:ext cx="5977080" cy="21564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5687640" y="3176280"/>
            <a:ext cx="1584000" cy="505080"/>
          </a:xfrm>
          <a:custGeom>
            <a:avLst/>
            <a:gdLst>
              <a:gd name="textAreaLeft" fmla="*/ 247320 w 1584000"/>
              <a:gd name="textAreaRight" fmla="*/ 1386000 w 158400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42920" y="5445000"/>
            <a:ext cx="2737080" cy="28908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10800000">
            <a:off x="3924000" y="5373360"/>
            <a:ext cx="1584360" cy="431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036800" y="1341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042920" y="5805360"/>
            <a:ext cx="6913800" cy="71928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6048000" y="4616280"/>
            <a:ext cx="1584360" cy="50508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1036800" y="1341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258920" y="4078440"/>
            <a:ext cx="6696000" cy="50292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6984000" y="5120280"/>
            <a:ext cx="1295280" cy="36036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58920" y="3573360"/>
            <a:ext cx="6696000" cy="50328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6625440" y="4617000"/>
            <a:ext cx="1295280" cy="36036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58920" y="3213000"/>
            <a:ext cx="669600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6265080" y="4112280"/>
            <a:ext cx="1295280" cy="36036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1036800" y="1341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042920" y="5805360"/>
            <a:ext cx="6840720" cy="71928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6048000" y="4689360"/>
            <a:ext cx="1584360" cy="50508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1036800" y="1341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1042920" y="5661000"/>
            <a:ext cx="6913800" cy="86364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5903640" y="4545000"/>
            <a:ext cx="1584360" cy="50472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6"/>
          <a:stretch/>
        </p:blipFill>
        <p:spPr>
          <a:xfrm>
            <a:off x="1042920" y="1341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042920" y="5661000"/>
            <a:ext cx="6913800" cy="86364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5400000">
            <a:off x="6406920" y="4545000"/>
            <a:ext cx="1584360" cy="50472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9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TAKO-san patch's target is "array_merge". (5/7)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042920" y="1314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330200" y="1628640"/>
            <a:ext cx="6697800" cy="64800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6408720" y="2888640"/>
            <a:ext cx="1584360" cy="50508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51280" y="4510080"/>
            <a:ext cx="1225440" cy="21420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51280" y="5805360"/>
            <a:ext cx="1297080" cy="21600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0800000">
            <a:off x="5148000" y="4436640"/>
            <a:ext cx="1584360" cy="36036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5219280" y="5733720"/>
            <a:ext cx="1584360" cy="35892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1042920" y="1314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348000" y="3357720"/>
            <a:ext cx="1152720" cy="21420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71640" y="4294080"/>
            <a:ext cx="1152720" cy="28728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10800000">
            <a:off x="4571640" y="3284280"/>
            <a:ext cx="1584360" cy="36036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0800000">
            <a:off x="3995280" y="4292640"/>
            <a:ext cx="1584360" cy="28872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1036800" y="1314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195640" y="3213000"/>
            <a:ext cx="1224000" cy="21600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3492000" y="3141720"/>
            <a:ext cx="1584360" cy="35856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9640" y="1916280"/>
            <a:ext cx="8066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99"/>
                </a:solidFill>
                <a:latin typeface="Verdana"/>
              </a:rPr>
              <a:t>I don't understand well…</a:t>
            </a:r>
            <a:endParaRPr b="0" lang="en-US" sz="8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6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9" dur="14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14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TAKO-san patch's target is "array_merge". (6/7)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16000" y="184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042920" y="1314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258920" y="3500280"/>
            <a:ext cx="6697800" cy="57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6264000" y="4689000"/>
            <a:ext cx="1584360" cy="50472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042920" y="1314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042920" y="2205000"/>
            <a:ext cx="5689800" cy="28728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5327640" y="3104640"/>
            <a:ext cx="1584360" cy="50508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42920" y="5300640"/>
            <a:ext cx="3024360" cy="28728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0800000">
            <a:off x="4140360" y="5229000"/>
            <a:ext cx="1584000" cy="433080"/>
          </a:xfrm>
          <a:custGeom>
            <a:avLst/>
            <a:gdLst>
              <a:gd name="textAreaLeft" fmla="*/ 247320 w 1584000"/>
              <a:gd name="textAreaRight" fmla="*/ 1386000 w 1584000"/>
              <a:gd name="textAreaTop" fmla="*/ 108360 h 433080"/>
              <a:gd name="textAreaBottom" fmla="*/ 325080 h 43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1042920" y="1314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042920" y="2997360"/>
            <a:ext cx="6913800" cy="352728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6265080" y="1951920"/>
            <a:ext cx="1440000" cy="504720"/>
          </a:xfrm>
          <a:custGeom>
            <a:avLst/>
            <a:gdLst>
              <a:gd name="textAreaLeft" fmla="*/ 225000 w 1440000"/>
              <a:gd name="textAreaRight" fmla="*/ 1260000 w 1440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1036800" y="1314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187280" y="2709720"/>
            <a:ext cx="6769440" cy="57492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6622920" y="3968280"/>
            <a:ext cx="1584360" cy="50472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1042920" y="1314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042920" y="4005360"/>
            <a:ext cx="6913800" cy="718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6200000">
            <a:off x="6480000" y="5336640"/>
            <a:ext cx="1584360" cy="50472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24000" y="263700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Before…</a:t>
            </a:r>
            <a:endParaRPr b="0" lang="en-US" sz="80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6"/>
          <a:stretch/>
        </p:blipFill>
        <p:spPr>
          <a:xfrm>
            <a:off x="1036800" y="1314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042920" y="4005360"/>
            <a:ext cx="6913800" cy="1224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6406920" y="2889000"/>
            <a:ext cx="1584360" cy="50472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3280" y="521352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After!</a:t>
            </a:r>
            <a:endParaRPr b="0" lang="en-US" sz="8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0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5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5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TAKO-san patch's target is "array_merge". (7/7)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16000" y="184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036800" y="1314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2122560" y="4149720"/>
            <a:ext cx="577800" cy="158436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0800000">
            <a:off x="2987640" y="4653000"/>
            <a:ext cx="2232000" cy="504720"/>
          </a:xfrm>
          <a:custGeom>
            <a:avLst/>
            <a:gdLst>
              <a:gd name="textAreaLeft" fmla="*/ 348480 w 2232000"/>
              <a:gd name="textAreaRight" fmla="*/ 1953000 w 2232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1042920" y="1314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330200" y="4941720"/>
            <a:ext cx="362160" cy="136692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10800000">
            <a:off x="2195640" y="5372280"/>
            <a:ext cx="2232000" cy="504720"/>
          </a:xfrm>
          <a:custGeom>
            <a:avLst/>
            <a:gdLst>
              <a:gd name="textAreaLeft" fmla="*/ 348480 w 2232000"/>
              <a:gd name="textAreaRight" fmla="*/ 1953000 w 2232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1042920" y="1314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330200" y="5445000"/>
            <a:ext cx="505080" cy="86364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0800000">
            <a:off x="2340000" y="5589720"/>
            <a:ext cx="2016000" cy="504720"/>
          </a:xfrm>
          <a:custGeom>
            <a:avLst/>
            <a:gdLst>
              <a:gd name="textAreaLeft" fmla="*/ 315000 w 2016000"/>
              <a:gd name="textAreaRight" fmla="*/ 1764000 w 2016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2708280"/>
            <a:ext cx="74901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006699"/>
                </a:solidFill>
                <a:latin typeface="Verdana"/>
              </a:rPr>
              <a:t>Great</a:t>
            </a:r>
            <a:r>
              <a:rPr b="1" lang="en-US" sz="12000" spc="-1" strike="noStrike">
                <a:solidFill>
                  <a:srgbClr val="006699"/>
                </a:solidFill>
                <a:latin typeface="Verdana"/>
              </a:rPr>
              <a:t>!!</a:t>
            </a:r>
            <a:endParaRPr b="0" lang="en-US" sz="1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0920" y="2641680"/>
            <a:ext cx="8424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1042920" y="1314360"/>
            <a:ext cx="7064280" cy="53546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042920" y="3357720"/>
            <a:ext cx="6913800" cy="302400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5400000">
            <a:off x="6514920" y="2347920"/>
            <a:ext cx="1368360" cy="50472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280" y="2554200"/>
            <a:ext cx="806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99"/>
                </a:solidFill>
                <a:latin typeface="Verdana"/>
              </a:rPr>
              <a:t>Todays' findings!</a:t>
            </a:r>
            <a:endParaRPr b="0" lang="en-US" sz="8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500"/>
                            </p:stCondLst>
                            <p:childTnLst>
                              <p:par>
                                <p:cTn id="1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9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8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8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8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288" dur="2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1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14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TAKO-san patch’s</a:t>
            </a:r>
            <a:r>
              <a:rPr b="1" lang="ja-JP" sz="2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advice.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16000" y="18255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1700280"/>
            <a:ext cx="67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6699"/>
                </a:solidFill>
                <a:latin typeface="Verdana"/>
              </a:rPr>
              <a:t>・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Guts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!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6699"/>
                </a:solidFill>
                <a:latin typeface="Verdana"/>
              </a:rPr>
              <a:t>・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ry!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6699"/>
                </a:solidFill>
                <a:latin typeface="Verdana"/>
              </a:rPr>
              <a:t>・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Guts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!!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6699"/>
                </a:solidFill>
                <a:latin typeface="Verdana"/>
              </a:rPr>
              <a:t>・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ry!!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6699"/>
                </a:solidFill>
                <a:latin typeface="Verdana"/>
              </a:rPr>
              <a:t>・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Gutsyyyyy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!!!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6699"/>
                </a:solidFill>
                <a:latin typeface="Verdana"/>
              </a:rPr>
              <a:t>・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1" lang="en-US" sz="4800" spc="-1" strike="noStrike">
                <a:solidFill>
                  <a:srgbClr val="006699"/>
                </a:solidFill>
                <a:latin typeface="Verdana"/>
              </a:rPr>
              <a:t>ryyyyyyy!!!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-36360" y="1484280"/>
            <a:ext cx="9144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ff0000"/>
                </a:solidFill>
                <a:latin typeface="Verdana"/>
              </a:rPr>
              <a:t>Guts needed!</a:t>
            </a:r>
            <a:endParaRPr b="0" lang="en-US" sz="14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413000"/>
            <a:ext cx="6723360" cy="499896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TAKO-san patch goals is exceed Bataco.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18255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5280" y="32130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99"/>
                </a:solidFill>
                <a:latin typeface="Verdana"/>
              </a:rPr>
              <a:t>However, the target is very strong...</a:t>
            </a:r>
            <a:endParaRPr b="0" lang="en-US" sz="5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0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2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3" dur="2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2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Important!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16000" y="184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00000" y="1484280"/>
            <a:ext cx="7272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6699"/>
                </a:solidFill>
                <a:latin typeface="Verdana"/>
              </a:rPr>
              <a:t>I’m find </a:t>
            </a:r>
            <a:r>
              <a:rPr b="1" lang="en-US" sz="16000" spc="-1" strike="noStrike">
                <a:solidFill>
                  <a:srgbClr val="006699"/>
                </a:solidFill>
                <a:latin typeface="Verdana"/>
              </a:rPr>
              <a:t>Job!!</a:t>
            </a:r>
            <a:endParaRPr b="0" lang="en-US" sz="16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Enjoy TAKO-san hacking life!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16000" y="184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00000" y="1695600"/>
            <a:ext cx="72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99"/>
                </a:solidFill>
                <a:latin typeface="Verdana"/>
              </a:rPr>
              <a:t>Thank you for Listening!!</a:t>
            </a:r>
            <a:endParaRPr b="0" lang="en-US" sz="8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771640" y="535788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99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0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2050"/>
                            </p:stCondLst>
                            <p:childTnLst>
                              <p:par>
                                <p:cTn id="13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1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2550"/>
                            </p:stCondLst>
                            <p:childTnLst>
                              <p:par>
                                <p:cTn id="14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4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What is TAKO? (1/2)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18255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00160" y="1413000"/>
            <a:ext cx="6711840" cy="502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413000"/>
            <a:ext cx="6723000" cy="49989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What is TAKO? (2/2)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18255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2062080"/>
            <a:ext cx="64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I was deeply impressed by this word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on't fear to be a TAKO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Everyone was a TAKO at first!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Be proud of being a TAKO while retaining your modesty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431316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Don't forget the mind of a TAKO.</a:t>
            </a: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The legend of TAKO-san patch started here.</a:t>
            </a:r>
            <a:endParaRPr b="1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1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341360"/>
            <a:ext cx="6981840" cy="5229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68360" y="4292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99"/>
                </a:solidFill>
                <a:latin typeface="Verdana"/>
              </a:rPr>
              <a:t>One year passed since the decision.</a:t>
            </a:r>
            <a:endParaRPr b="0" lang="en-US" sz="5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3534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TAKO-san patch invades even the Core of PHP.</a:t>
            </a:r>
            <a:endParaRPr b="1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1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960" y="1700280"/>
            <a:ext cx="4721400" cy="4707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2960" y="1700280"/>
            <a:ext cx="4721400" cy="4707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26920" y="1341360"/>
            <a:ext cx="7201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99"/>
                </a:solidFill>
                <a:latin typeface="Verdana"/>
              </a:rPr>
              <a:t>Crisis of mbstring!!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The emergence of God!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Big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Big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Big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thanks to Fujimoto, TAKAGI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Takagi is very active in recent phpdoc!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not 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phpdoc-ja!!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learn by watching... orz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History of my work in the Core of PHP.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1628640"/>
            <a:ext cx="756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dded option parameter mb_list_encodings( ).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dded mb_list_encodings_alias_names( ).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・</a:t>
            </a:r>
            <a:r>
              <a:rPr b="0" lang="ja-JP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dded mb_list_mime_names( ).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dded mb_strstr( ).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dded mb_strrchr( ).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dded mb_stripos( ).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dded mb_strripos( ).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dded mb_stristr( ).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dded mb_strrichr( ).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dded mb_stristr( ).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dded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mb_strrichr( ).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dded(changed) option parameter mb_strrpos( ).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Updated bundled oniguruma library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(used for multibyte regular expression) to 4.2.0.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2205000"/>
            <a:ext cx="7848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Verdana"/>
              </a:rPr>
              <a:t>PHP5.2.0 ready!!</a:t>
            </a:r>
            <a:endParaRPr b="0" lang="en-US" sz="10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50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500"/>
                            </p:stCondLst>
                            <p:childTnLst>
                              <p:par>
                                <p:cTn id="21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700"/>
                            </p:stCondLst>
                            <p:childTnLst>
                              <p:par>
                                <p:cTn id="21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1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My next step in the Core of PHP.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1628640"/>
            <a:ext cx="82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Updated bundled oniguruma library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(used for  multibyte regular expression) to 4.2.2 or later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dded mb_explode( )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dded mb_iexplode( )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dded option parameter mb_split( )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dded mb_spliti( )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dded mb_str_replace( )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dded mb_str_ireplace( )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dded mb_bytelen( )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dded mb_list_languages( )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dded mb_mime_encode_headers( )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dded mb_mime_decode_headers( )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PHP_5_2 Branch style coding(future PHP6)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RFC2231 style mime encode and decode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99"/>
                </a:solidFill>
                <a:latin typeface="Verdana"/>
              </a:rPr>
              <a:t>・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dded new future func_overload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(drop mbstring.func_overload in php.ini setting)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413000"/>
            <a:ext cx="6723000" cy="49989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66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Hacking the Core of PHP.</a:t>
            </a:r>
            <a:endParaRPr b="1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1125360"/>
            <a:ext cx="856908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18255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58920" y="2062080"/>
            <a:ext cx="64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3640" y="4005360"/>
            <a:ext cx="3529080" cy="64764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4076640"/>
            <a:ext cx="2089080" cy="504720"/>
          </a:xfrm>
          <a:custGeom>
            <a:avLst/>
            <a:gdLst>
              <a:gd name="textAreaLeft" fmla="*/ 326160 w 2089080"/>
              <a:gd name="textAreaRight" fmla="*/ 1828080 w 20890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99736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You've got that right!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500" autoRev="1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6" dur="500" autoRev="1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7" dur="500" autoRev="1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桝形　誠二</cp:lastModifiedBy>
  <dcterms:modified xsi:type="dcterms:W3CDTF">2006-08-29T10:55:35Z</dcterms:modified>
  <cp:revision>241</cp:revision>
  <dc:subject/>
  <dc:title>PowerPoint Presentation</dc:title>
</cp:coreProperties>
</file>